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E52-75EA-4903-87FD-31211D33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E5A-A9DE-4401-8B2F-B6BB125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8A8-EF0C-47EA-B159-861D5FD2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218-ACC9-44C8-81ED-9FE405CF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C63D-B46A-4C77-A4FE-E9E6C68A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E2B3-5AD5-4DAB-B869-5BC3DC90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D38F-EA22-4A0F-8465-1BB26EBD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FF87-BD83-4F28-AEFC-5F90EA44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2329-0A18-43D2-89F2-62C64F4C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7191-E94A-44E2-ABD5-8D4A9175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8C23-93EF-41DD-9776-C9F12CCD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24F-A2D8-4CDB-A80F-64227A88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F28A-2C04-48E5-B93D-A4AAFA1C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C67D-32D1-4EB7-AD72-C3453BD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8F71-5587-499A-B009-95E5B550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5908-91C7-478E-AE7F-781A5759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EA53-3875-4AA3-89E3-4A484480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1EB-44D7-405C-B966-1D8C857D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E96-B202-4BD7-A09F-2EC0A643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4C7-9452-497C-A7E4-9FBFE209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155-082F-4C30-891C-852C9CDF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472-C53A-4043-AD14-4519D51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8E5-3BAC-4B8F-ACF2-9557F28D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7B8-1574-4A2B-BA7F-30CEBD2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9240" y="1622520"/>
            <a:ext cx="8305560" cy="150840"/>
            <a:chOff x="219240" y="1622520"/>
            <a:chExt cx="8305560" cy="150840"/>
          </a:xfrm>
        </p:grpSpPr>
        <p:sp>
          <p:nvSpPr>
            <p:cNvPr id="1" name=""/>
            <p:cNvSpPr/>
            <p:nvPr/>
          </p:nvSpPr>
          <p:spPr>
            <a:xfrm>
              <a:off x="219240" y="163836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162252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5D70-9548-41C3-B4AC-13742A477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353360" y="47628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17600" y="3027240"/>
            <a:ext cx="8305200" cy="150840"/>
            <a:chOff x="417600" y="3027240"/>
            <a:chExt cx="8305200" cy="150840"/>
          </a:xfrm>
        </p:grpSpPr>
        <p:sp>
          <p:nvSpPr>
            <p:cNvPr id="46" name=""/>
            <p:cNvSpPr/>
            <p:nvPr/>
          </p:nvSpPr>
          <p:spPr>
            <a:xfrm>
              <a:off x="417600" y="3043080"/>
              <a:ext cx="828792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4880" y="3027240"/>
              <a:ext cx="828792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1806-8433-4E47-9A64-94C276DD1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690640" y="3429000"/>
            <a:ext cx="3800520" cy="2847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for a Comm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eld Calibrator Software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AC7E-28E8-4300-BBFB-A3A78DC773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librator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Cal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12880" y="2066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DateAnd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Temp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estResults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e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3CB-7AD0-4A3F-896D-D1F3C1261E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libratorDown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Down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Down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tDown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5A0-8D51-44A6-B5EE-DD8CA8350AB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libratorUploa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Up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oadNext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BC2-031B-4774-A6E3-AE39DF9087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 Interface Ready for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tp://ftp.swri.edu/fctc/fcintf.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on Interface Need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s Careful Consideration by both Application Software and Calibrator 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50C-DB16-4174-9984-54F6190EB7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alibrator Hardware Interface Stand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physical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protocols and data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oftware Interface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drivers for each software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drivers for each calib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17A-4691-4544-9272-4C1F7C8736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Independent Driv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xisting, Accept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e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alysis and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Common and Specific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BE7-AB07-4993-A38D-E37AF4A7E0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eld Calibrato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S Component Objec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 Defined by FC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 Common Data and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Driver (Server) per Calib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to Any Application (Cli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01D-8016-4B94-BD41-73B42CA725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INTF CO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03400" y="2527200"/>
            <a:ext cx="6296040" cy="28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AB7-099B-4F1D-8CEF-1446411B6A8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Standard (multiple plat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ly Available Development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by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6E1-B582-4158-AB0B-7BA8E314DC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CIN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specification (a piece of pap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efines a set of Interfac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scribes their behavio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applications and calibrators can  exchang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28E-273D-4596-A995-C833E66463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05360" y="2236680"/>
          <a:ext cx="3564000" cy="234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05360" y="2236680"/>
                    <a:ext cx="356400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librator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libratorDown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libratorUp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ispat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344-CC65-40BC-89CC-602961BBAB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ets of interfaces on the sam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(ICalibratorInfo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on (IDispat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provide similar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orks best with C,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on works best with V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C86-1360-491A-93DE-CF46E45A83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Ma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21:27:00Z</dcterms:created>
  <dc:creator>Kenneth Holladay</dc:creator>
  <dc:description/>
  <dc:language>en-US</dc:language>
  <cp:lastModifiedBy>Kenneth Holladay</cp:lastModifiedBy>
  <cp:lastPrinted>1998-05-20T00:54:36Z</cp:lastPrinted>
  <dcterms:modified xsi:type="dcterms:W3CDTF">1998-05-20T01:03:44Z</dcterms:modified>
  <cp:revision>6</cp:revision>
  <dc:subject/>
  <dc:title>No Slide Title</dc:title>
</cp:coreProperties>
</file>